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jpeg" ContentType="image/jpeg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FA33-3BAB-43E4-B1ED-2285EE8F7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BA33-531B-4E8F-A23A-C74DEE26CF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CE9F-3A1E-43CA-80DB-979B62DE64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12DE-D536-4449-B81B-0DEB14D3D4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0A41-85AE-49B9-9BCE-87737952F6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503C-749D-4A69-93CF-1F95E9DC84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3CF4-E4E9-4412-A818-DA9A35F97E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D343-F973-4BF1-9C14-FD211E5E4C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ABA-394D-463E-9FDE-7CF1938D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488-8B4C-4E2A-B6FC-0EC43645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E79-2EBE-4E3E-B7F2-D90E51A5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5678-45C2-4DD2-A7FB-6C9485DF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68EE-8A92-4C86-B330-AC8F561E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D7B3-0757-47C5-A83C-2F58A70C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2987-27F6-4462-A891-6100A6F9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F126-DA70-4CA7-9AEA-59CDAFF4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2A10-4BC8-4F00-AD65-0D34BC5D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4787-FCBB-4FC3-8154-7F0B2380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E2FD-EFC4-4EB4-B187-DBA02667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1AE-581A-4D04-875A-736B4BCA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491F-13C4-4C47-8B6C-FF0F89AB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04E4-D25D-497A-917D-11D3EBC4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D764-D90F-4616-9F70-73AF99AB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A97F-74E5-4AAF-9450-D3047B26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38DC-121E-4897-8494-4DDA0CD6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5B0-E389-4A64-A76B-443D4E14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822-47AA-49FA-A237-19216D0F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A8B-D554-4B4C-BF16-056655A2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93E-B063-4CD2-AD47-6AE0B47D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14F-76AD-4392-BC08-258FC22B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598-915F-47FC-8F29-B3024226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541-C8E9-42D9-8558-24DDB293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998F-DCA7-4443-A835-718D9FDE331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C563-C094-4F75-98AA-3A7280BCD95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W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ar Breaks Ou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 allocate all their resources to war effort (TOTAL W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countries ration g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men replace men in fact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imated 330 billion dollars are spent fighting the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ath tota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8.5 million people d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y 1.7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 1.7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e 1.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stria Hungary 1.2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land 908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ed State 116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reaty of Versail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s the Great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severe and is used to punish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nce takes its reve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ain wants coexist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wants to avoid future w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y is left with the weak Weimar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problems fol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Treaty of Versail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4" descr="705B462F"/>
          <p:cNvPicPr/>
          <p:nvPr/>
        </p:nvPicPr>
        <p:blipFill>
          <a:blip r:embed="rId1"/>
          <a:srcRect l="5196" t="2083" r="39287" b="79437"/>
          <a:stretch/>
        </p:blipFill>
        <p:spPr>
          <a:xfrm>
            <a:off x="152280" y="1981080"/>
            <a:ext cx="876312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3-2-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 – policies that Germany must follo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 – reasons why France wanted to punish German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- Question about the war/treaty that you still hav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ble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arations = deb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tion and crippled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t lands contained great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ed military frightens the Germ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k, unpopular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nations and political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age and identity sh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683c"/>
                </a:solidFill>
                <a:latin typeface="Tahoma"/>
              </a:rPr>
              <a:t>Russ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2547720"/>
            <a:ext cx="370368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yal Fam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bility (300y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d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ain in war (join in spoil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y allies with England, France, Ame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erty, money, l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0680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ace, land, bre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alit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bs/end servitu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pid industrial grow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7" descr="http://rds.yahoo.com/_ylt=A9gnMiP3slBG8hkAdFijzbkF;_ylu=X3oDMTBsMDZhZWQzBHNlYwNwcm9mBHZ0aWQDSTA3MF85Mg--/SIG=125jmnmbf/EXP=1179780215/**http%3A/www.2-russia.com/images/people/romanov.jpg"/>
          <p:cNvPicPr/>
          <p:nvPr/>
        </p:nvPicPr>
        <p:blipFill>
          <a:blip r:embed="rId1"/>
          <a:stretch/>
        </p:blipFill>
        <p:spPr>
          <a:xfrm>
            <a:off x="4267080" y="5214960"/>
            <a:ext cx="1524240" cy="1643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http://rds.yahoo.com/_ylt=A9gnMiMos1BG.BoAkC6jzbkF;_ylu=X3oDMTBsMDZhZWQzBHNlYwNwcm9mBHZ0aWQDSTA3MF85Mg--/SIG=12b8nrtsp/EXP=1179780264/**http%3A/www.klangundkleid.ch/img/dvd/covers/EKA40050.jpg"/>
          <p:cNvPicPr/>
          <p:nvPr/>
        </p:nvPicPr>
        <p:blipFill>
          <a:blip r:embed="rId2"/>
          <a:stretch/>
        </p:blipFill>
        <p:spPr>
          <a:xfrm>
            <a:off x="7602480" y="0"/>
            <a:ext cx="1541520" cy="2209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The Winter Palace"/>
          <p:cNvPicPr/>
          <p:nvPr/>
        </p:nvPicPr>
        <p:blipFill>
          <a:blip r:embed="rId3"/>
          <a:stretch/>
        </p:blipFill>
        <p:spPr>
          <a:xfrm>
            <a:off x="0" y="0"/>
            <a:ext cx="3581280" cy="2387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http://rds.yahoo.com/_ylt=A9gnMiiTs1BGbMoA7AWjzbkF;_ylu=X3oDMTBsMDZhZWQzBHNlYwNwcm9mBHZ0aWQDSTA3MF85Mg--/SIG=12jgh5s7j/EXP=1179780371/**http%3A/www.cise.ufl.edu/~db0/images/Hammer%2520n%2520sickle.gif"/>
          <p:cNvPicPr/>
          <p:nvPr/>
        </p:nvPicPr>
        <p:blipFill>
          <a:blip r:embed="rId4"/>
          <a:stretch/>
        </p:blipFill>
        <p:spPr>
          <a:xfrm>
            <a:off x="5715000" y="457200"/>
            <a:ext cx="9525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http://rds.yahoo.com/_ylt=A9gnMiiTs1BGbMoA7AWjzbkF;_ylu=X3oDMTBsMDZhZWQzBHNlYwNwcm9mBHZ0aWQDSTA3MF85Mg--/SIG=12jgh5s7j/EXP=1179780371/**http%3A/www.cise.ufl.edu/~db0/images/Hammer%2520n%2520sickle.gif"/>
          <p:cNvPicPr/>
          <p:nvPr/>
        </p:nvPicPr>
        <p:blipFill>
          <a:blip r:embed="rId5"/>
          <a:stretch/>
        </p:blipFill>
        <p:spPr>
          <a:xfrm>
            <a:off x="7848720" y="4495680"/>
            <a:ext cx="9525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64767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ds vs. Whit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1680" y="2590920"/>
            <a:ext cx="6022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s: Bolshevik communist who oppose the Tsar and the Old Reg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Lenin, Trotsky, Stal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tes: Defend Tsar and traditional social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er-r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2" descr="http://rds.yahoo.com/_ylt=A9gnMinFtVBGC.IAcDujzbkF;_ylu=X3oDMTBsMDZhZWQzBHNlYwNwcm9mBHZ0aWQDSTA3MF85Mg--/SIG=11uthu1c5/EXP=1179780933/**http%3A/www.anticom.ru/images/red/lenin.jpg"/>
          <p:cNvPicPr/>
          <p:nvPr/>
        </p:nvPicPr>
        <p:blipFill>
          <a:blip r:embed="rId1"/>
          <a:stretch/>
        </p:blipFill>
        <p:spPr>
          <a:xfrm>
            <a:off x="0" y="0"/>
            <a:ext cx="1676520" cy="2579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rds.yahoo.com/_ylt=A9gnMiYNtlBGlLIA.kqjzbkF;_ylu=X3oDMTBsMDZhZWQzBHNlYwNwcm9mBHZ0aWQDSTA3MF85Mg--/SIG=12g3nal98/EXP=1179781005/**http%3A/radio.weblogs.com/0001015/images/2002/09/21/lenin.jpg"/>
          <p:cNvPicPr/>
          <p:nvPr/>
        </p:nvPicPr>
        <p:blipFill>
          <a:blip r:embed="rId2"/>
          <a:stretch/>
        </p:blipFill>
        <p:spPr>
          <a:xfrm>
            <a:off x="6172200" y="2735280"/>
            <a:ext cx="29322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ster Assign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poster that supports either the Czar or the rev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oster should inclu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ages/Visu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d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ying, quote, chant . .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urate and creative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2488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alin’s Soviet Un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1320" y="1142640"/>
            <a:ext cx="6708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ve Year Plans: to modernize and strengthen the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steel, coal, oil &amp; electr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quotas are set on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consumer goods/scrap drive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 to shortages and suff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2" descr="http://rds.yahoo.com/_ylt=A9gnMiFepVNGW1kBZ0mjzbkF;_ylu=X3oDMTBsMDZhZWQzBHNlYwNwcm9mBHZ0aWQDSTA3MF85Mg--/SIG=12d3kd3ev/EXP=1179973342/**http%3A/www.dictatorofthemonth.com/Stalin/stalin_siwy.jpeg"/>
          <p:cNvPicPr/>
          <p:nvPr/>
        </p:nvPicPr>
        <p:blipFill>
          <a:blip r:embed="rId1"/>
          <a:stretch/>
        </p:blipFill>
        <p:spPr>
          <a:xfrm>
            <a:off x="7042320" y="0"/>
            <a:ext cx="2101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gree/Disagre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 is a test of a nation’s true str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tell a lot about a person based on their ethnicity/nationa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hypocritical for America to fight against other nations for developing weapons of mass de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457200"/>
          <a:ext cx="9144000" cy="5864400"/>
        </p:xfrm>
        <a:graphic>
          <a:graphicData uri="http://schemas.openxmlformats.org/drawingml/2006/table">
            <a:tbl>
              <a:tblPr/>
              <a:tblGrid>
                <a:gridCol w="1736640"/>
                <a:gridCol w="2286000"/>
                <a:gridCol w="2470320"/>
                <a:gridCol w="2651040"/>
              </a:tblGrid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 million t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mt (75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 mt (152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million t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 mt (22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 mt (47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ron 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million t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mt (19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g Ir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million t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mt (10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mt (16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million t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mt (10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 mt (17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ula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d Labor Camps for priso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re like jails but with forced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re extremely vicious and corru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SON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it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ose who refused collec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eign enem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ose who spoke against the reg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llective Far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llions of farms are seized and combined into larger fa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ndreds of families worked each colle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a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waste and compet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ier to superv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resisted and died or were impriso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urges (Great Purg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secret police and political spies, Stalin begins his attack on possible thre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hear the door and disapp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sored the p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often target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rs/direc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tical riv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itary offic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ne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value of mo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inf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causes it (two reas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this impact the global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Infla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y of Versailles: reparations, land, dam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s of colonies, allies and mark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prin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many is hit har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ian business partners then suff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urces are the true world currenc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do they have in comm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ny Blair, George W. Bush, Vladimir Put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vo, BMW, Mercedes-Ben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ue Whales, Snow Leopards, White Rhi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lin, Hitler, Mussol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D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it R’ Do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out a blank sheet of pa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side of the room will receive several direction she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de that has every individual finish first wins 1pt of extra cred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asons for Regim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der out of chaos (laws and agend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ying effect (national identit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voice of reason (shot call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itarian (cruel enough to force chan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BACKS of DEMOCRAC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for di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nformed are included in 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act of Nationalis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licts over lands/bound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superiority comple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role of milit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in folklore/heri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sions over political amb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4" descr="http://rds.yahoo.com/_ylt=A9gnMifak0JGVQgA0Q6jzbkF;_ylu=X3oDMTBsMW5yM3VoBHNlYwNwcm9mBHZ0aWQDSTA2Nl84OA--/SIG=120ogum19/EXP=1178854746/**http%3A/www.loc.gov/rr/print/guide/pp0594.jpg"/>
          <p:cNvPicPr/>
          <p:nvPr/>
        </p:nvPicPr>
        <p:blipFill>
          <a:blip r:embed="rId1"/>
          <a:stretch/>
        </p:blipFill>
        <p:spPr>
          <a:xfrm>
            <a:off x="6829560" y="3735360"/>
            <a:ext cx="2314440" cy="3122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://rds.yahoo.com/_ylt=A9gnMiOdk0JGdqkA71OjzbkF;_ylu=X3oDMTBsMW5yM3VoBHNlYwNwcm9mBHZ0aWQDSTA2Nl84OA--/SIG=12luqab0j/EXP=1178854685/**http%3A/www.clas.ufl.edu/users/harlandj/Images/fww_recruit_ire.jpg"/>
          <p:cNvPicPr/>
          <p:nvPr/>
        </p:nvPicPr>
        <p:blipFill>
          <a:blip r:embed="rId2"/>
          <a:stretch/>
        </p:blipFill>
        <p:spPr>
          <a:xfrm>
            <a:off x="4572000" y="3780000"/>
            <a:ext cx="22096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4 Cau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itarism – Glorifying military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requires a mili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would a military be pop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liances – Secret promises betwe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alliances were not as danger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ret alliances made regional wars glob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erialism –  Quest for colonies/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etition for strategic locations =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ionalism – devotion to one’s country OR desire for a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ed ethnicities (one attacked, all attack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150480" y="244440"/>
            <a:ext cx="883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“I regret that I have but one life to give to my country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athan H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. The total Defense expenditures of European pow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80880" y="2057400"/>
          <a:ext cx="6782040" cy="137160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400"/>
                <a:gridCol w="1130040"/>
                <a:gridCol w="1130400"/>
                <a:gridCol w="1130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81"/>
          <p:cNvSpPr/>
          <p:nvPr/>
        </p:nvSpPr>
        <p:spPr>
          <a:xfrm>
            <a:off x="156960" y="3425040"/>
            <a:ext cx="8142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To Fight we are bo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fight for the fatherl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Kaiser Wilhelm we have swo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Kaiser Wilhelm we give our h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“War is no longer Samson with his shield and spear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word, and David with his sling.  It is a conflict o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mokestacks…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cretary of War Newton Bak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long as it has no allies France poses no danger to 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to Von Bismar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he Spark!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chduke Franz Ferdinand visits Sarajevo on Turkish annivers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 Hand (Serbian Nationalists) assassinate the Austrian he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vrilo Princ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MMj03365540000[1]"/>
          <p:cNvPicPr/>
          <p:nvPr/>
        </p:nvPicPr>
        <p:blipFill>
          <a:blip r:embed="rId1"/>
          <a:stretch/>
        </p:blipFill>
        <p:spPr>
          <a:xfrm>
            <a:off x="3200400" y="762120"/>
            <a:ext cx="1727280" cy="1935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gavrilo"/>
          <p:cNvPicPr/>
          <p:nvPr/>
        </p:nvPicPr>
        <p:blipFill>
          <a:blip r:embed="rId2"/>
          <a:stretch/>
        </p:blipFill>
        <p:spPr>
          <a:xfrm>
            <a:off x="7153200" y="3971880"/>
            <a:ext cx="1990800" cy="2886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MMj02347170000[1]"/>
          <p:cNvPicPr/>
          <p:nvPr/>
        </p:nvPicPr>
        <p:blipFill>
          <a:blip r:embed="rId3"/>
          <a:stretch/>
        </p:blipFill>
        <p:spPr>
          <a:xfrm>
            <a:off x="7620120" y="2666880"/>
            <a:ext cx="98100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arting a wa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1320" y="1218960"/>
            <a:ext cx="861372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bia blamed for the st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strian leader died: Austria’s ultimatum, deni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y declares war on Ser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 mobilizes to assist Ser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y declares war on France upon hearing their compla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y invaded Belgium to attack F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ain enters to honor a secret alli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5" descr="55"/>
          <p:cNvPicPr/>
          <p:nvPr/>
        </p:nvPicPr>
        <p:blipFill>
          <a:blip r:embed="rId1"/>
          <a:stretch/>
        </p:blipFill>
        <p:spPr>
          <a:xfrm>
            <a:off x="0" y="0"/>
            <a:ext cx="9267840" cy="76485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610560" y="9907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Sid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746280" y="1944720"/>
            <a:ext cx="192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31120" y="2819520"/>
            <a:ext cx="3509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lied Pow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652640" y="4191120"/>
            <a:ext cx="455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entral Pow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ustria – Hung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erman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tal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4:55:03Z</dcterms:created>
  <dc:creator>Will</dc:creator>
  <dc:description/>
  <dc:language>en-US</dc:language>
  <cp:lastModifiedBy>Kuenzi</cp:lastModifiedBy>
  <dcterms:modified xsi:type="dcterms:W3CDTF">2013-05-16T12:29:28Z</dcterms:modified>
  <cp:revision>45</cp:revision>
  <dc:subject/>
  <dc:title>WWI</dc:title>
</cp:coreProperties>
</file>